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3BA2-A32D-413C-B8B5-B8893274C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4754-BCAD-4977-988A-3E8B22A8F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7CE9-B92F-4561-BD57-854964E31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8B0B-2BCF-4252-8FAC-F90931B2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BA63-AE8D-4898-B781-E4CC95641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FCBC-8F16-488D-A012-D4FDCAE8A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A7D0-FAD5-43E4-ABCA-DFD68BABC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E8C5-6EEE-478F-B611-984D8A5C8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269E-A1C5-4111-936F-7FAE5C73A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8DCA-54B3-4FB3-B989-C24794DA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C911-A278-430B-8E40-3A49E63DB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B724-9A05-410C-A666-D76134E95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4BA8-F4FD-4ECB-B30E-74A01C49F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9E19-6333-40F3-A71B-E90E25B7F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3BB8-E3C2-4867-AADF-E9A29938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F89-1746-4CFB-8C37-3C76407A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5010-4F5D-4782-A375-32FAE800C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8CBA-E70D-49B5-A47E-43EF87265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9207-1845-4FE2-8AC9-0AF3B35B5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2EC-9EB1-478D-8D6A-B1BCC3AF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EE4-C516-4AE1-90C6-3D5D451D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788-61B3-4502-9B80-F03707F5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F94-A4D9-460F-8670-31D137C5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270-13AE-44A5-A05C-935D85AA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7F0-29CA-49C4-9A39-C225E480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70F-B2FE-4A93-9D95-432813B5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4C2-DB67-4692-8BC0-65EB9057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26D-D422-4B9A-91DB-D4592702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70F-B370-46AD-BDB9-6A74520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DCF-C9E4-4C01-B115-A594E145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CEE-8CC6-440F-B406-A107C72C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BE9-D210-45DC-88FA-31C8ABD1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mpawards.com/2001/american_pie_two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mpawards.com/2009/ugly_truth_ver2_xlg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mpawards.com/2004/saw_ver3_xlg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mpawards.com/2005/amityville_horror_xlg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: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o develop understanding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f how to apply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DIA LANGUAGE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o your cours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419256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Untitled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iting: captions used to help narrate the story (“Four Teenagers”) and to show actors names, transitions, special effects (grenade, gun-shots to signify danger), 2 cameras used (special effects) – film within a film, longer clips at beginning, quicker as heist approached (suggest ac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rative: very brief introduction to the characters, resolution shown in trailer (unconventional and also unconventional because the audience still want to watch the film), narrative appears (largely) chron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79840" y="113328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rativ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nti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languag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e-en-sce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nematograph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ing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te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V:\Media\A2 work for display 2011\Mark Sison Front Cover.jpg"/>
          <p:cNvPicPr/>
          <p:nvPr/>
        </p:nvPicPr>
        <p:blipFill>
          <a:blip r:embed="rId1"/>
          <a:stretch/>
        </p:blipFill>
        <p:spPr>
          <a:xfrm>
            <a:off x="0" y="0"/>
            <a:ext cx="48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79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ly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e-en-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te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V:\Media\A2 work for display 2011\Mark Sison Front Cover.jpg"/>
          <p:cNvPicPr/>
          <p:nvPr/>
        </p:nvPicPr>
        <p:blipFill>
          <a:blip r:embed="rId1"/>
          <a:stretch/>
        </p:blipFill>
        <p:spPr>
          <a:xfrm>
            <a:off x="0" y="0"/>
            <a:ext cx="48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ainstor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76720" y="16002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as could you choose to analy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V:\Media\A2 work for display 2011\Mark Sison Poster.jpg"/>
          <p:cNvPicPr/>
          <p:nvPr/>
        </p:nvPicPr>
        <p:blipFill>
          <a:blip r:embed="rId1"/>
          <a:stretch/>
        </p:blipFill>
        <p:spPr>
          <a:xfrm>
            <a:off x="0" y="-11160"/>
            <a:ext cx="48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lysis of your cours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1 area of your partner’s poster to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a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rm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c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h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g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ig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ood l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nv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anquil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l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erva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lean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ophist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orm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leg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a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ys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der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happ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“media langu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ay that meaning is made using the conventions of the particular medium and type of media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broader category allowing candidates to write about elements of semiotics, genre, narrative, design, codes and conventions, spoken, written and visual language to name just a few exam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give one specific example, the use of continuity editing in a film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app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m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dea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hone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war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002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notation and De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ook at the film pos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onnotations do you get from the mise-en-scene on your poster? Consider Setting, Props, Costume, Colour and Character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Return to Main Page for American Pie 2 Pos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25280"/>
            <a:ext cx="454536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he Ugly Truth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It's a Boy Girl Thing Poster"/>
          <p:cNvPicPr/>
          <p:nvPr/>
        </p:nvPicPr>
        <p:blipFill>
          <a:blip r:embed="rId1"/>
          <a:stretch/>
        </p:blipFill>
        <p:spPr>
          <a:xfrm>
            <a:off x="2190600" y="61920"/>
            <a:ext cx="4762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The Exorcist Poster"/>
          <p:cNvPicPr/>
          <p:nvPr/>
        </p:nvPicPr>
        <p:blipFill>
          <a:blip r:embed="rId1"/>
          <a:stretch/>
        </p:blipFill>
        <p:spPr>
          <a:xfrm>
            <a:off x="2382840" y="-22320"/>
            <a:ext cx="4618080" cy="68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Saw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5760" y="0"/>
            <a:ext cx="474516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The Amityville Horror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79600" y="189000"/>
            <a:ext cx="4626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thusser and Interpe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lieved in the power of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thought the recognition (interpellation) of ideology turned individuals in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become bound to the ideology - they do not question it because it appear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what ideological values do your media texts con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chnical aspect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ainstorm key words relate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iotics – connotation, denotation, metonym, figurative, abstract, symbol, sign, metaphor, sign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re – predictable pleasures, representation, iconography, ideological themes (repertoire of elements), narrative, characterisation (stock type, archetype), conventions (how genre is defined), audience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rrative – repertoire of elements, equilibrium-disequilibrium-resolution (Todorov), characterisation, perspective (narrative voice), setting, exposition, cause an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– mise-en-scene, set design, creativity, conventions, denotation, masthead, target audience,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ten language – meaning, interpretation, provocative, pun, alliteration, metaphor, superlative (the best (“est”), imperative, exaggeration (hyperbole), simile, onomatopo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“media language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ng key media theories to your coursework, especi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m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moder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x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language to describe conventions you have used or not (or subverted), especially in relation to 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4920" y="1747440"/>
            <a:ext cx="8209080" cy="39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udy of sign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think of any examples of signs or symb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ould you define a sign or a sym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ngs that represent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002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notation and De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no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you actually see (e.g. a rose is a red f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o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something might stand for or represent (e.g. to give someone a red rose might suggest lo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ise-en-scene in your trailer, poster and magazine can connote complex ideas to the viewer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ok at the following colours – what connotations do they have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semiotic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ony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when one sign represents a greater whole. For example the statue of liberty is a sign that represents the US as a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ymbolism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visual metap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chorag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ext that is used to assist in the reading of the image- anchors th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rthes and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ieved that imag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inforced cultural my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rough their co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xi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dea in that this served to empower those in econo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defin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rst 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 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connotations)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red wine in French soci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rst order 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t is a dark, red bottle signifying it is a bottle of w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 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“Bourgeois” take this signifier and apply their own (sometimes incorrect) emphasis to it, making wine a new signifier of a healthy dr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what symbolism would your target audience “read” into the images in your media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1:58:21Z</dcterms:created>
  <dc:creator>#</dc:creator>
  <dc:description/>
  <dc:language>en-US</dc:language>
  <cp:lastModifiedBy>Permaul, Pravin</cp:lastModifiedBy>
  <dcterms:modified xsi:type="dcterms:W3CDTF">2013-05-13T14:25:14Z</dcterms:modified>
  <cp:revision>22</cp:revision>
  <dc:subject/>
  <dc:title>Semiotics</dc:title>
</cp:coreProperties>
</file>